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EC16-70F6-4184-96C7-12CE3D5C7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A349-74D0-47B4-B4CE-7096A585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563D-7762-42D2-9B81-B3A6A6DEA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9527-22DF-4342-A4EE-FC5FAD40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C551-031F-4ABB-B5CF-2618E5E8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E387-BEDB-4BCB-9F45-33D7248E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4010-E850-4AF1-8983-F9BA0CE6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1138-1962-49B3-B2AA-727EDD75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C177-DBB2-4135-9C16-FBC9E27E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9BE1-16A7-478B-BD96-6BDAA5C3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0135-0C05-4CFD-AB92-73BFCE38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CB9C-FDA5-4756-969F-CDA90242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B861-C976-4CBF-B16C-2042D07E8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3333cc"/>
                </a:solidFill>
                <a:latin typeface="Arial"/>
                <a:cs typeface="Arial"/>
              </a:rPr>
              <a:t>المركز الوطني للحياة المائ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409720" y="3276360"/>
            <a:ext cx="30481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99"/>
                </a:solidFill>
                <a:latin typeface="Arial"/>
                <a:cs typeface="Arial"/>
              </a:rPr>
              <a:t>الخبرة الفريدة  في            الحياة المائ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36576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3333cc"/>
                </a:solidFill>
                <a:latin typeface="Arial"/>
                <a:cs typeface="Arial"/>
              </a:rPr>
              <a:t>التسهيل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99"/>
                </a:solidFill>
                <a:latin typeface="Arial"/>
                <a:cs typeface="Arial"/>
              </a:rPr>
              <a:t>ممرات للمشي تحت الماء خلال مياه البحار الاستوائية والبار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99"/>
                </a:solidFill>
                <a:latin typeface="Arial"/>
                <a:cs typeface="Arial"/>
              </a:rPr>
              <a:t>مميزات أسماك القرش والدولف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99"/>
                </a:solidFill>
                <a:latin typeface="Arial"/>
                <a:cs typeface="Arial"/>
              </a:rPr>
              <a:t>أماكن لسباحة وإيواء السلاح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99"/>
                </a:solidFill>
                <a:latin typeface="Arial"/>
                <a:cs typeface="Arial"/>
              </a:rPr>
              <a:t>توفير مأوى آمن للفقم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99"/>
                </a:solidFill>
                <a:latin typeface="Arial"/>
                <a:cs typeface="Arial"/>
              </a:rPr>
              <a:t>أماكن للتعلي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99"/>
                </a:solidFill>
                <a:latin typeface="Arial"/>
                <a:cs typeface="Arial"/>
              </a:rPr>
              <a:t>مقه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99"/>
                </a:solidFill>
                <a:latin typeface="Arial"/>
                <a:cs typeface="Arial"/>
              </a:rPr>
              <a:t>محال للتسو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904080" y="4495680"/>
            <a:ext cx="1222200" cy="1600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3T11:39:42Z</dcterms:created>
  <dc:creator>HEATHER</dc:creator>
  <dc:description/>
  <dc:language>en-US</dc:language>
  <cp:lastModifiedBy>Andaleeb</cp:lastModifiedBy>
  <dcterms:modified xsi:type="dcterms:W3CDTF">2004-08-11T17:02:14Z</dcterms:modified>
  <cp:revision>4</cp:revision>
  <dc:subject/>
  <dc:title>National Sea-life Centre</dc:title>
</cp:coreProperties>
</file>